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54C-4CAB-40FE-A70F-422F9676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3D8D-F226-42B4-B572-E16E4B43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B61D-EF76-4D40-8AF2-295E1CCF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4732-35A5-4561-BDFC-54AEA9BE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5508-A979-4BFA-85FC-B3A91011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2EE-6E53-48BE-AD52-F760EC1F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28D4-55E1-4D20-99EF-D48EAA57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AD7F-51C2-420A-BE60-4723B36D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19BD-0B0E-4B52-90AB-83DACC20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1A1D-80EC-4022-9B74-6B2AE4A2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D355-B09C-4C06-B39E-05773551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93AC-DB9D-4C1B-AF9F-3CC31640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1C19-A98C-400F-ADAC-C1DE400AD9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905120" y="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2T02:14:07Z</dcterms:created>
  <dc:creator>Administrator</dc:creator>
  <dc:description/>
  <dc:language>en-US</dc:language>
  <cp:lastModifiedBy>AutoBVT</cp:lastModifiedBy>
  <dcterms:modified xsi:type="dcterms:W3CDTF">2017-03-02T02:16:4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