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2362-1DBE-4713-B0C6-88BDB5316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145C-2D06-4D0B-AC1B-53C48159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D341-A26F-4059-A533-0224D155D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33B3-4766-4F64-999F-D663CADFE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4167-85E3-49BB-BD9D-DD404932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4BFF-BF4B-492E-9A49-96AB3F9C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01C9-8030-492B-8A5E-C42C41D6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2029-AFA1-4ED4-BD09-B65BBFD0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A249-9FD8-48F5-817A-6E40AE63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CC16-F94A-4B08-AAF6-312E4859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AE84-FA41-4B86-A708-E77BBAA4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E7CE-0CA1-4380-8490-49F8CE22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8E7E-6CD9-4BF3-BE53-25054EF1B7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1905120" y="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2T02:14:07Z</dcterms:created>
  <dc:creator>Administrator</dc:creator>
  <dc:description/>
  <dc:language>en-US</dc:language>
  <cp:lastModifiedBy>AutoBVT</cp:lastModifiedBy>
  <dcterms:modified xsi:type="dcterms:W3CDTF">2017-03-02T02:16:4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