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3B1A5-F61D-472B-90E0-4407EBB65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D2863-CF6B-4769-93E3-7DD4F90C0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B6F62-C94D-419C-A22F-6CDC74B0A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04443-FE05-491E-9880-800B6E0A8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C02CE-404C-4501-9379-8D4D1A270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E513B-FD4B-42BF-AFD2-BA56D5759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50312-9428-4041-B580-D01D47EEB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B1780-3418-417E-9C35-CAEA85FE2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7ACA4-25E2-4F64-8573-F41CB4055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DF729-9665-465B-B051-C4956A4C7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93D5C-5199-4402-8A79-298D16DAD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856D8-02A7-4E36-A8B8-C55238552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C8D50-39E3-48FC-88D1-5C8B2B98218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-1909800" y="-379440"/>
            <a:ext cx="12963600" cy="77151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629800" y="-311760"/>
            <a:ext cx="6480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33333"/>
                </a:solidFill>
                <a:latin typeface="Arial"/>
                <a:ea typeface="Microsoft YaHei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33333"/>
                </a:solidFill>
                <a:latin typeface="Arial"/>
                <a:ea typeface="Microsoft YaHei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-1909800" y="-353520"/>
            <a:ext cx="720" cy="360"/>
          </a:xfrm>
          <a:prstGeom prst="rect">
            <a:avLst/>
          </a:prstGeom>
          <a:solidFill>
            <a:srgbClr val="fcfc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-2556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0"/>
            </a:br>
            <a:endParaRPr b="0" lang="en-US" sz="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-1909800" y="-379440"/>
            <a:ext cx="12963600" cy="771516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2629800" y="-311760"/>
            <a:ext cx="6480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33333"/>
                </a:solidFill>
                <a:latin typeface="Arial"/>
                <a:ea typeface="Microsoft YaHei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33333"/>
                </a:solidFill>
                <a:latin typeface="Arial"/>
                <a:ea typeface="Microsoft YaHei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-1909800" y="-353520"/>
            <a:ext cx="720" cy="360"/>
          </a:xfrm>
          <a:prstGeom prst="rect">
            <a:avLst/>
          </a:prstGeom>
          <a:solidFill>
            <a:srgbClr val="fcfc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-2556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0"/>
            </a:br>
            <a:endParaRPr b="0" lang="en-US" sz="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-1909800" y="-379440"/>
            <a:ext cx="12963600" cy="771516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2629800" y="-311760"/>
            <a:ext cx="6480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33333"/>
                </a:solidFill>
                <a:latin typeface="Arial"/>
                <a:ea typeface="Microsoft YaHei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33333"/>
                </a:solidFill>
                <a:latin typeface="Arial"/>
                <a:ea typeface="Microsoft YaHei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-1909800" y="-353520"/>
            <a:ext cx="720" cy="360"/>
          </a:xfrm>
          <a:prstGeom prst="rect">
            <a:avLst/>
          </a:prstGeom>
          <a:solidFill>
            <a:srgbClr val="fcfc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-2556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0"/>
            </a:br>
            <a:endParaRPr b="0" lang="en-US" sz="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-1909800" y="-379440"/>
            <a:ext cx="12963600" cy="77151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2629800" y="-311760"/>
            <a:ext cx="6480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33333"/>
                </a:solidFill>
                <a:latin typeface="Arial"/>
                <a:ea typeface="Microsoft YaHei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33333"/>
                </a:solidFill>
                <a:latin typeface="Arial"/>
                <a:ea typeface="Microsoft YaHei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-1909800" y="-353520"/>
            <a:ext cx="720" cy="360"/>
          </a:xfrm>
          <a:prstGeom prst="rect">
            <a:avLst/>
          </a:prstGeom>
          <a:solidFill>
            <a:srgbClr val="fcfc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-2556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0"/>
            </a:br>
            <a:endParaRPr b="0" lang="en-US" sz="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-1909800" y="-379440"/>
            <a:ext cx="12963600" cy="771516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2629800" y="-311760"/>
            <a:ext cx="6480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33333"/>
                </a:solidFill>
                <a:latin typeface="Arial"/>
                <a:ea typeface="Microsoft YaHei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33333"/>
                </a:solidFill>
                <a:latin typeface="Arial"/>
                <a:ea typeface="Microsoft YaHei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-1909800" y="-353520"/>
            <a:ext cx="720" cy="360"/>
          </a:xfrm>
          <a:prstGeom prst="rect">
            <a:avLst/>
          </a:prstGeom>
          <a:solidFill>
            <a:srgbClr val="fcfc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-2556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0"/>
            </a:br>
            <a:endParaRPr b="0" lang="en-US" sz="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-1909800" y="-379440"/>
            <a:ext cx="12963600" cy="7715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629800" y="-311760"/>
            <a:ext cx="6480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33333"/>
                </a:solidFill>
                <a:latin typeface="Arial"/>
                <a:ea typeface="Microsoft YaHei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33333"/>
                </a:solidFill>
                <a:latin typeface="Arial"/>
                <a:ea typeface="Microsoft YaHei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-1909800" y="-353520"/>
            <a:ext cx="720" cy="360"/>
          </a:xfrm>
          <a:prstGeom prst="rect">
            <a:avLst/>
          </a:prstGeom>
          <a:solidFill>
            <a:srgbClr val="fcfc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-2556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0"/>
            </a:br>
            <a:endParaRPr b="0" lang="en-US" sz="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-1909800" y="-379440"/>
            <a:ext cx="12963600" cy="77151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629800" y="-311760"/>
            <a:ext cx="6480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33333"/>
                </a:solidFill>
                <a:latin typeface="Arial"/>
                <a:ea typeface="Microsoft YaHei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33333"/>
                </a:solidFill>
                <a:latin typeface="Arial"/>
                <a:ea typeface="Microsoft YaHei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-1909800" y="-353520"/>
            <a:ext cx="720" cy="360"/>
          </a:xfrm>
          <a:prstGeom prst="rect">
            <a:avLst/>
          </a:prstGeom>
          <a:solidFill>
            <a:srgbClr val="fcfc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-2556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0"/>
            </a:br>
            <a:endParaRPr b="0" lang="en-US" sz="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-1909800" y="-379440"/>
            <a:ext cx="12963600" cy="77151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629800" y="-311760"/>
            <a:ext cx="6480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33333"/>
                </a:solidFill>
                <a:latin typeface="Arial"/>
                <a:ea typeface="Microsoft YaHei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33333"/>
                </a:solidFill>
                <a:latin typeface="Arial"/>
                <a:ea typeface="Microsoft YaHei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-1909800" y="-353520"/>
            <a:ext cx="720" cy="360"/>
          </a:xfrm>
          <a:prstGeom prst="rect">
            <a:avLst/>
          </a:prstGeom>
          <a:solidFill>
            <a:srgbClr val="fcfc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-2556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0"/>
            </a:br>
            <a:endParaRPr b="0" lang="en-US" sz="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-1905120" y="0"/>
            <a:ext cx="12963600" cy="77151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2629800" y="-311760"/>
            <a:ext cx="6480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33333"/>
                </a:solidFill>
                <a:latin typeface="Arial"/>
                <a:ea typeface="Microsoft YaHei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33333"/>
                </a:solidFill>
                <a:latin typeface="Arial"/>
                <a:ea typeface="Microsoft YaHei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-1909800" y="-353520"/>
            <a:ext cx="720" cy="360"/>
          </a:xfrm>
          <a:prstGeom prst="rect">
            <a:avLst/>
          </a:prstGeom>
          <a:solidFill>
            <a:srgbClr val="fcfc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-2556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0"/>
            </a:br>
            <a:endParaRPr b="0" lang="en-US" sz="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-1909800" y="-379440"/>
            <a:ext cx="12963600" cy="771516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2629800" y="-311760"/>
            <a:ext cx="6480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33333"/>
                </a:solidFill>
                <a:latin typeface="Arial"/>
                <a:ea typeface="Microsoft YaHei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33333"/>
                </a:solidFill>
                <a:latin typeface="Arial"/>
                <a:ea typeface="Microsoft YaHei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-1909800" y="-353520"/>
            <a:ext cx="720" cy="360"/>
          </a:xfrm>
          <a:prstGeom prst="rect">
            <a:avLst/>
          </a:prstGeom>
          <a:solidFill>
            <a:srgbClr val="fcfc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-2556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0"/>
            </a:br>
            <a:endParaRPr b="0" lang="en-US" sz="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-1909800" y="-379440"/>
            <a:ext cx="12963600" cy="771516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2629800" y="-311760"/>
            <a:ext cx="6480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33333"/>
                </a:solidFill>
                <a:latin typeface="Arial"/>
                <a:ea typeface="Microsoft YaHei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33333"/>
                </a:solidFill>
                <a:latin typeface="Arial"/>
                <a:ea typeface="Microsoft YaHei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-1909800" y="-353520"/>
            <a:ext cx="720" cy="360"/>
          </a:xfrm>
          <a:prstGeom prst="rect">
            <a:avLst/>
          </a:prstGeom>
          <a:solidFill>
            <a:srgbClr val="fcfc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-2556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0"/>
            </a:br>
            <a:endParaRPr b="0" lang="en-US" sz="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-1909800" y="-379440"/>
            <a:ext cx="12963600" cy="771516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2629800" y="-311760"/>
            <a:ext cx="6480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33333"/>
                </a:solidFill>
                <a:latin typeface="Arial"/>
                <a:ea typeface="Microsoft YaHei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33333"/>
                </a:solidFill>
                <a:latin typeface="Arial"/>
                <a:ea typeface="Microsoft YaHei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-1909800" y="-353520"/>
            <a:ext cx="720" cy="360"/>
          </a:xfrm>
          <a:prstGeom prst="rect">
            <a:avLst/>
          </a:prstGeom>
          <a:solidFill>
            <a:srgbClr val="fcfc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-2556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0"/>
            </a:br>
            <a:endParaRPr b="0" lang="en-US" sz="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-1909800" y="-379440"/>
            <a:ext cx="12963600" cy="771516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2629800" y="-311760"/>
            <a:ext cx="6480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33333"/>
                </a:solidFill>
                <a:latin typeface="Arial"/>
                <a:ea typeface="Microsoft YaHei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33333"/>
                </a:solidFill>
                <a:latin typeface="Arial"/>
                <a:ea typeface="Microsoft YaHei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-1909800" y="-353520"/>
            <a:ext cx="720" cy="360"/>
          </a:xfrm>
          <a:prstGeom prst="rect">
            <a:avLst/>
          </a:prstGeom>
          <a:solidFill>
            <a:srgbClr val="fcfc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-2556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0"/>
            </a:br>
            <a:endParaRPr b="0" lang="en-US" sz="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3-02T02:14:07Z</dcterms:created>
  <dc:creator>Administrator</dc:creator>
  <dc:description/>
  <dc:language>en-US</dc:language>
  <cp:lastModifiedBy>AutoBVT</cp:lastModifiedBy>
  <dcterms:modified xsi:type="dcterms:W3CDTF">2017-03-02T02:16:4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