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0E1-ED6F-4A42-A1DF-6594267C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C6E8-7300-4C4A-A516-15264718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3F3A-5F5E-4863-B3E8-FF884703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6065-ADA3-4A78-8624-322686CD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E904-D414-4A85-9C82-4CE96F13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17D5-A22D-43A7-B91D-0E70E194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41E-447E-4A0F-A947-B4D60751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943-936F-4FDD-959F-AABEF1A6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789E-9E1C-4EF4-866B-4CDC165C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8CE-1834-4EB9-B3CF-613559AE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630C-6BEC-4AE2-A844-8538CED5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D7F5-E970-44A7-B9CF-1951ADA4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4E42-167C-4CA3-AC37-05CA3D1136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905120" y="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2T02:14:07Z</dcterms:created>
  <dc:creator>Administrator</dc:creator>
  <dc:description/>
  <dc:language>en-US</dc:language>
  <cp:lastModifiedBy>AutoBVT</cp:lastModifiedBy>
  <dcterms:modified xsi:type="dcterms:W3CDTF">2017-03-02T02:16:4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