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B680-FBDB-4158-A909-81AD14A0B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8C21-85E1-4D54-B090-E21A788A9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FB01-C19D-411B-955B-BE5654D95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D2FF-C899-46A6-AFE5-7E15D3051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6AA4-AE0F-473A-A8FB-46B4EC09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6232-A946-4438-A4D6-1C7222539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6A6C-699F-4828-AF7C-5F79134B4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2648-D5F6-4F43-9462-C758769A3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C328-2A1F-42E7-B8CB-E343D52FA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340A-C87E-46F0-A5CA-7E6CD97E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07F9-1207-4713-A6F5-3E9BD9D0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6ACA-58C0-4629-BEAF-F866D224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41E66-8AD1-4F3E-ACE7-EF5BC26AB2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-1905120" y="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1909800" y="-379440"/>
            <a:ext cx="12963600" cy="77151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629800" y="-311760"/>
            <a:ext cx="64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33333"/>
                </a:solidFill>
                <a:latin typeface="Arial"/>
                <a:ea typeface="Microsoft YaHei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1909800" y="-353520"/>
            <a:ext cx="720" cy="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255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0"/>
            </a:b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02T02:14:07Z</dcterms:created>
  <dc:creator>Administrator</dc:creator>
  <dc:description/>
  <dc:language>en-US</dc:language>
  <cp:lastModifiedBy>AutoBVT</cp:lastModifiedBy>
  <dcterms:modified xsi:type="dcterms:W3CDTF">2017-03-02T02:16:4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