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0971-4A79-4F13-909B-53AA0997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42D1-86DE-4C4C-8FFB-A567EC46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7B1-6964-4F97-A403-D0FF1996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A534-D933-45BC-B1FA-31F00023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C7EA-D40F-4A57-B82D-8A76E3A6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32B3-8026-42E2-9905-7315DB83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DA60-65DE-4F68-95AA-66199A4A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886B-E59B-4785-B27A-19371F78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4011-7BC3-4D7A-9470-D4070E15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9441-C3E0-4B0B-B305-428B7838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A90C-52E3-45A8-9F2B-D22FD63D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05A1-4608-4608-9216-D26DB8F5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CE37-6EC3-4DEE-91C0-B59167F6E8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905120" y="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2T02:14:07Z</dcterms:created>
  <dc:creator>Administrator</dc:creator>
  <dc:description/>
  <dc:language>en-US</dc:language>
  <cp:lastModifiedBy>AutoBVT</cp:lastModifiedBy>
  <dcterms:modified xsi:type="dcterms:W3CDTF">2017-03-02T02:16:4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