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F5A-9A04-492B-9B17-5F94C89E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D742-59BD-4EA2-BBE0-363C7365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4AF9-CF02-4F3D-B3FB-2AB0B3C2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442-1424-4F70-861D-F65B2A54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9D9-BAC7-48A7-8EE8-CC445B03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44E-1A82-4A6C-9CA6-F999F0BF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328-F41A-42A1-B335-3F8CF00E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83F0-5957-4623-B51A-8D82D9A3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7A0-62D0-480A-8F79-6A545496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4E7-E38B-4DCA-818F-9C7AC300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D1B0-6CB2-494D-9374-615EFAA1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CAFA-F736-475A-B20B-505E683D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75E3-8FA6-46D8-9350-A7095766B9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905120" y="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2T02:14:07Z</dcterms:created>
  <dc:creator>Administrator</dc:creator>
  <dc:description/>
  <dc:language>en-US</dc:language>
  <cp:lastModifiedBy>AutoBVT</cp:lastModifiedBy>
  <dcterms:modified xsi:type="dcterms:W3CDTF">2017-03-02T02:16:4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