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F73-4306-41B6-8B9C-66D813C5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94E-B238-4E1D-8C4B-B6C66038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F15-FF46-4A3B-8733-7AE9A281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905D-D04A-4EC4-9194-BAA87BF7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E35-D665-40EE-90A7-C26D1A15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38A-0B51-4902-AF8E-4F4AA6E8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C36-5847-45DF-8050-D8B142A4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332-8564-429D-9BF7-0E3BBA2C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A4F8-0054-404E-9719-48583AE4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335-02AF-4EBC-970A-CB47F864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975-4CE5-4DA0-90E2-7593F2D2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4BE-F771-4706-84F9-3DA53911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37C-1BC9-4E1A-AA76-C7A11275A0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02:14:07Z</dcterms:created>
  <dc:creator>Administrator</dc:creator>
  <dc:description/>
  <dc:language>en-US</dc:language>
  <cp:lastModifiedBy>AutoBVT</cp:lastModifiedBy>
  <dcterms:modified xsi:type="dcterms:W3CDTF">2017-03-02T02:16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