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1E2-9A78-4503-BE40-5D1FA447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537-A198-4C36-A27A-139C6856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17A-6D74-4660-8D31-1F1BE80E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611-2B7D-4F2E-8FEC-3D5094A7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300-24BA-4A20-BBDC-4C0A4BA5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BF0-FB39-4BC0-854E-EAF17D06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779-C341-4283-8E10-C1C49A9B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084-6BC3-48F8-BBFB-8D0BCA85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94C-30CE-4400-87DA-082F5F2C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2F8-A350-47EC-8A93-41B9C9CA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871-8F7A-472D-A104-B580A8FE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8BB-B576-48D4-87E9-89C25CDA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53D5-7E63-493A-8208-22E96DDAE3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02:14:07Z</dcterms:created>
  <dc:creator>Administrator</dc:creator>
  <dc:description/>
  <dc:language>en-US</dc:language>
  <cp:lastModifiedBy>AutoBVT</cp:lastModifiedBy>
  <dcterms:modified xsi:type="dcterms:W3CDTF">2017-03-02T02:16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